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F2D-9A22-41A3-A421-E3482276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984-6919-4D38-868D-E5B47968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902-B53B-4C2C-AF20-F98BC551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258-5A82-4A1D-9D72-8BB045CD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331-FDAE-43F9-AC6A-0EA1C7A3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014-37F8-4878-AF21-E3F4D1F1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C29-1AF2-4ADD-884E-7CF4CA4A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1CC-4941-45A3-90BC-E311646F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EDD-72BA-4E9F-9E1A-A49F07F3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1FE-320A-4BB0-8F12-9ECCB82C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419-8E8C-4EC4-96A8-2D1F40C2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2CE-A2DA-44A6-863F-CC0259C8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9EB7-4734-4A4F-B597-395A24290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O NOTES:  Dave Pel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roduct Image"/>
          <p:cNvPicPr/>
          <p:nvPr/>
        </p:nvPicPr>
        <p:blipFill>
          <a:blip r:embed="rId1"/>
          <a:stretch/>
        </p:blipFill>
        <p:spPr>
          <a:xfrm rot="21306600">
            <a:off x="304560" y="1653840"/>
            <a:ext cx="3581280" cy="5203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91120" y="213372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Powerpoint  to Collect and Organize Your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re his challenges in his early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ly, mentally, verbally, and emotionally abused by his alcoholic m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ed with small disciplinary consequences (sitting in the corner) and changed to burns and bruises (Pelzer, 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pping my arm, Mother held it in the orange-blue flame. My skin seemed toe explode from the heat.  I could smell the scorched hairs from my burnt arm.” (Pelzer, 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re his challenges in his early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use gradually came from his brothers also; took advantage of him and viewed him as a family slave with continual bullying (Pelzer, 3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hey approached me, my heart became hard as tone, and I am sure that they saw the hate etched in my face.” (Pelzer, 13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re his challenges in his adult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4379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ined the Air Force at age 18; flew plans that refueled the SR-71 Blackbird and f-117 Stealth Fighters, both used in highly secretive military operations in Ir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ued to deal with the consequences of his abuse as an adult and had a goal of making himself a better person (“All About Dave Pelzer.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About Dave Pelzer."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ve Pelzer - The Official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.p., n.d. Web. 7 Feb. 201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tp://www.davepelzer.com/about.html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lzer, David J.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child called "it": an abused child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urney from victim to vi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Deerfield Bea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.: Health Communications, 1995. Pr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How did he overcome his challen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How was his life different after the challen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Revelation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What did he learn about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Revelation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How does he pay it for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6:15:46Z</dcterms:created>
  <dc:creator>jtunison</dc:creator>
  <dc:description/>
  <dc:language>en-US</dc:language>
  <cp:lastModifiedBy>jtunison</cp:lastModifiedBy>
  <dcterms:modified xsi:type="dcterms:W3CDTF">2013-02-07T17:18:49Z</dcterms:modified>
  <cp:revision>3</cp:revision>
  <dc:subject/>
  <dc:title>Challenges  –  What were his challenges?</dc:title>
</cp:coreProperties>
</file>